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ADD1-213F-4DBB-977C-A703FE1D9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ACE4-DC9C-477B-807D-2EFC3A72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0FD6-3A46-409E-81E6-DC526F88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CFDB-D4A9-4807-B685-7FB4A3B9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6266-F42B-442A-B2BA-9C5A7098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9A79-3A90-48B0-8B88-81F1533A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B27B-D63F-4E6D-814B-0C64A28C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5DBA-CE93-4BBB-85B5-76E352BF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C66D-728B-469E-A462-BA4FE658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9716-B241-4973-A15F-977A8C4B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0764-CDDE-44DB-90E6-90D21816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3867-F74F-4290-B939-B0BCF3E3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F765-298C-4F4C-92B2-01B63FA07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sessive Pro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Grade Gram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ular Possessive Pro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ssessive pronou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kes the place of a possessive no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ssessive pronou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hows who or what owns some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y, your, his, and 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singular possessive no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ural Possessive Pro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lural possessive pronou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hows who or what owns some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ts, our, your, and thei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plural possessive prono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sessive Pro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gular Posses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ws ownership of on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lural Posses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ws ownership of more than on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sessive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ohn and Jan’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ouse is bri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ndrea’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ouse is bri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dog’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one is l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nk’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g is bro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rinna’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r is lock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had’s dad and my d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frie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6:22:40Z</dcterms:created>
  <dc:creator>GCSD</dc:creator>
  <dc:description/>
  <dc:language>en-US</dc:language>
  <cp:lastModifiedBy>teacher</cp:lastModifiedBy>
  <cp:lastPrinted>2005-02-28T20:24:07Z</cp:lastPrinted>
  <dcterms:modified xsi:type="dcterms:W3CDTF">2011-02-07T01:13:48Z</dcterms:modified>
  <cp:revision>4</cp:revision>
  <dc:subject/>
  <dc:title>Possessive Pronouns</dc:title>
</cp:coreProperties>
</file>